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-50760" bIns="-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uture jobs require the use of Office or similar programs for in office work.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ention lifetime learning isn’t just for student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ex = show on white board, then do the Framing Thought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egibilty = Sydney Teacher that hand wrote tests, used same for yrs, xeroxing xeroxe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maconnections.wikispaces.com/Detrick-Posthumus+Home+Page" TargetMode="External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maconnections.wikispaces.com/Detrick-Posthumus+Home+Page" TargetMode="External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1396800"/>
            <a:ext cx="10464840" cy="293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Gill Sans"/>
              </a:rPr>
              <a:t>Technology and </a:t>
            </a:r>
            <a:br>
              <a:rPr sz="9600"/>
            </a:br>
            <a:r>
              <a:rPr b="0" lang="en-US" sz="9600" spc="-1" strike="noStrike">
                <a:solidFill>
                  <a:srgbClr val="ffffff"/>
                </a:solidFill>
                <a:latin typeface="Gill Sans"/>
              </a:rPr>
              <a:t>Note-taking</a:t>
            </a:r>
            <a:br>
              <a:rPr sz="9600"/>
            </a:br>
            <a:endParaRPr b="0" lang="en-US" sz="96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Tamera Detrick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Lake Michigan Academy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Grand Rapids, MI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69720" y="1473120"/>
            <a:ext cx="10464840" cy="701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Flash, Jump, Thumb Drives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Shared Drives or Servers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Zapf Dingbats"/>
              <a:buChar char="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5800" spc="-1" strike="noStrike">
                <a:solidFill>
                  <a:srgbClr val="ffffff"/>
                </a:solidFill>
                <a:latin typeface="Gill Sans"/>
              </a:rPr>
              <a:t>Also acts as a Backup File!!!</a:t>
            </a:r>
            <a:endParaRPr b="0" lang="en-US" sz="5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Hey, Teacher Can I....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30040" y="23871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702000" indent="-451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Visibility in the Classroom and at Hom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1" marL="1053360" indent="-451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Projected Image 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1" marL="1053360" indent="-451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Personal Laptop or  Viewer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1" marL="1053360" indent="-451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Location Clarification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1" marL="1053360" indent="-451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Gill Sans"/>
              </a:rPr>
              <a:t>Zoom and Enlargement Capabilities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269720" y="-259200"/>
            <a:ext cx="10464840" cy="138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269720" y="533520"/>
            <a:ext cx="10464840" cy="795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lvl="1" marL="1239840" indent="-5310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Legibility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2" marL="1653480" indent="-5313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White Boards and Overheads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3" marL="2066760" indent="-5313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Messy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3" marL="2066760" indent="-5313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Too Light or Too Small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3" marL="2066760" indent="-5313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Glar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3" marL="2066760" indent="-5313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Have to Erase 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-297000"/>
            <a:ext cx="10464840" cy="138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69720" y="786960"/>
            <a:ext cx="10464840" cy="751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Gill Sans"/>
              </a:rPr>
              <a:t>State standards for Computer Learning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  <a:p>
            <a:pPr marL="861840" indent="-5540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Gill Sans"/>
              </a:rPr>
              <a:t>Teaches Life skills for Future Home  and Work Environment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  <a:p>
            <a:pPr lvl="1" marL="1293120" indent="-5540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Gill Sans"/>
              </a:rPr>
              <a:t>spreadsheets and template use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  <a:p>
            <a:pPr lvl="1" marL="1293120" indent="-5540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Gill Sans"/>
              </a:rPr>
              <a:t>sharing photos and audio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-316080"/>
            <a:ext cx="10464840" cy="138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041120" y="177840"/>
            <a:ext cx="10464840" cy="970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Flexibility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PowerPoint or Keynote (Mac) Presentations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Zapf Dingbats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lmaconnections.wikispaces.com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69720" y="-259200"/>
            <a:ext cx="10464840" cy="138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69720" y="851040"/>
            <a:ext cx="1046484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lvl="2" marL="1689120" indent="-5428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Gill Sans"/>
              </a:rPr>
              <a:t>MovieMaker or iMovie (Mac)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  <a:p>
            <a:pPr lvl="2" marL="1689120" indent="-5428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Gill Sans"/>
              </a:rPr>
              <a:t>Music Projects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  <a:p>
            <a:pPr lvl="3" marL="2111400" indent="-5428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Gill Sans"/>
              </a:rPr>
              <a:t>GarageBand (Mac) or Sessions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  <a:p>
            <a:pPr lvl="2" marL="1689120" indent="-5428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Gill Sans"/>
              </a:rPr>
              <a:t>Blogging (within controlled environment)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  <a:p>
            <a:pPr lvl="2" marL="1689120" indent="-5428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Gill Sans"/>
              </a:rPr>
              <a:t>Group Projects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69720" y="1308240"/>
            <a:ext cx="10464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lvl="2" marL="1742400" indent="-5601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Gill Sans"/>
              </a:rPr>
              <a:t>Podcasting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  <a:p>
            <a:pPr lvl="3" marL="2178000" indent="-5601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Gill Sans"/>
              </a:rPr>
              <a:t>Book Reviews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  <a:p>
            <a:pPr lvl="3" marL="2178000" indent="-5601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Gill Sans"/>
              </a:rPr>
              <a:t>Debates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  <a:p>
            <a:pPr lvl="3" marL="2178000" indent="-5601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Gill Sans"/>
              </a:rPr>
              <a:t>Rehearsals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  <a:p>
            <a:pPr lvl="3" marL="2178000" indent="-5601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Gill Sans"/>
              </a:rPr>
              <a:t>Journalism and Interviews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69720" y="-398880"/>
            <a:ext cx="10464840" cy="138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269720" y="635040"/>
            <a:ext cx="10464840" cy="784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Accountability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Absences and Tardies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Lost Work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Make-up Work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On-The-Go Access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676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HELP!!!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69720" y="1599840"/>
            <a:ext cx="10464840" cy="803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omputer Lab or Instructor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In House Tech Suppor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ISD: Staff or Classes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269720" y="926640"/>
            <a:ext cx="10464840" cy="755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ill Sans"/>
              </a:rPr>
              <a:t>Internet Help Videos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  <a:p>
            <a:pPr lvl="1" marL="1253160" indent="-5367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ill Sans"/>
              </a:rPr>
              <a:t>YouTube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  <a:p>
            <a:pPr lvl="1" marL="1253160" indent="-5367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ill Sans"/>
              </a:rPr>
              <a:t>Software/Hardware Websites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ill Sans"/>
              </a:rPr>
              <a:t>Apple Help Bar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ill Sans"/>
              </a:rPr>
              <a:t>Community Ed Classes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ill Sans"/>
              </a:rPr>
              <a:t>Your Children or Parents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Overview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Teacher Benefits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Student Benefits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Examples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07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Examples: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440" y="1803240"/>
            <a:ext cx="10464840" cy="731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7000"/>
          </a:bodyPr>
          <a:p>
            <a:pPr marL="5954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  <a:p>
            <a:pPr marL="595440" indent="-382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Gill Sans"/>
              </a:rPr>
              <a:t>Copy Machine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  <a:p>
            <a:pPr lvl="3" marL="1488960" indent="-382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Gill Sans"/>
              </a:rPr>
              <a:t>USB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  <a:p>
            <a:pPr lvl="3" marL="1488960" indent="-382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Gill Sans"/>
              </a:rPr>
              <a:t>Shared File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  <a:p>
            <a:pPr lvl="3" marL="1488960" indent="-382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Gill Sans"/>
              </a:rPr>
              <a:t>Email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  <a:p>
            <a:pPr lvl="1" marL="5104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  <a:p>
            <a:pPr marL="595440" indent="-382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Gill Sans"/>
              </a:rPr>
              <a:t>Scanner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  <a:p>
            <a:pPr lvl="3" marL="1488960" indent="-382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Gill Sans"/>
              </a:rPr>
              <a:t>OCR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  <a:p>
            <a:pPr lvl="3" marL="1488960" indent="-382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Gill Sans"/>
              </a:rPr>
              <a:t>PDF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  <a:p>
            <a:pPr lvl="2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  <a:p>
            <a:pPr lvl="2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69720" y="-366840"/>
            <a:ext cx="10464840" cy="138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269720" y="431280"/>
            <a:ext cx="10464840" cy="835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Using A Wiki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1" marL="122652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Teacher Created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1" marL="122652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Downloaded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Zapf Dingbats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 u="sng">
                <a:solidFill>
                  <a:srgbClr val="ffffff"/>
                </a:solidFill>
                <a:uFillTx/>
                <a:latin typeface="Gill Sans"/>
              </a:rPr>
              <a:t>http://lmaconnections.wikispaces.com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Flash, Thumb, Jump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817560" indent="-5256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Shared Drive or Files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22000" y="1612800"/>
            <a:ext cx="1046484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ake Fewer Steps</a:t>
            </a:r>
            <a:br>
              <a:rPr sz="8400"/>
            </a:b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nd Get Further!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304560"/>
            <a:ext cx="10464840" cy="22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91880" y="673200"/>
            <a:ext cx="10464840" cy="819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reating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Scanning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2" marL="1706760" indent="-5486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pdf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2" marL="1706760" indent="-54864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OCR softwar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opy and Past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1" marL="1279800" indent="-5482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rediting Internet/Print Sources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-322560"/>
            <a:ext cx="10464840" cy="138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7720" y="-723960"/>
            <a:ext cx="10464840" cy="826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Presenting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Illustrating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Images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Video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2" marL="1778040" indent="-5716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Audio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102960"/>
            <a:ext cx="10464840" cy="138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69720" y="1549440"/>
            <a:ext cx="10464840" cy="520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Flexibility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Visibility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Legibility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Highlighting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-49320"/>
            <a:ext cx="10464840" cy="138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762120"/>
            <a:ext cx="10464840" cy="6997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Why Share?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Absent or Tardy Students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o-Teachers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Parents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20520"/>
            <a:ext cx="10464840" cy="138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69720" y="698040"/>
            <a:ext cx="10464840" cy="797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How to Shar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Print Notes Instantly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Posting PDF or File at School, Class, Teacher Sites  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45000"/>
              <a:buFont typeface="Zapf Dingbats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lmaconnections.wikispaces.com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01360" y="1206360"/>
            <a:ext cx="10464840" cy="693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Storag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Accountability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Backup!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